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83E-3F26-42E8-A44C-DD802ED1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DA9-B75D-46C7-83A5-5AE52D46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9A5-7DF3-44C1-AAAC-990D7B39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587-AAB6-4F6D-A54A-7A2781C5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4F2-B0F4-49E8-8E46-A8E151F3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D34-B709-4CA8-A2B5-5DC3438B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F6A-D1BA-449A-BF63-BEF5D69B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FDE-F60A-430E-A273-0D5320A3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13C-3F96-4729-9CF2-09C32E84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F88-6CE8-473C-B85F-68DC1CD7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C23-AE94-4AC1-B4CF-E16A4AEC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2D0-EFA6-48A2-8B6E-D33B001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 sémiologie PCE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-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 M.KHELL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62A7-10ED-4363-BFFE-46A33E31C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ndrome Confusionn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67800" y="3305160"/>
            <a:ext cx="471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M.KHELL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 Médecine Int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tic Différent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troubles psychot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ouffée délir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allucinations auditives plus marqu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oubles de l'identité plus que de la consci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égativité des explorations complément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at d'agitation maniaq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les formes agitées, existence d'antécédents, pas de véritable trouble de la consci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lancoli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tupore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ins variables dans le tem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istence d'antécédents familiaux, négativité des explorations.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autres troubles psycho-organ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m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perplexité est moindre, ainsi que le délire oniriqu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'évolution est chronique, sans fluc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is beaucoup de personnes âgées présentent des états confuso-démenti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ses de Confusion Ment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ultiples , il faut toujours rechercher une cause orga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uses tox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ogènes :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lcoolism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vresse confusionnell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lirium tremens, sevrage brutal, amélioration rapide actuellement mais pronostic en fonction de la dépendance à l'alcoo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céphalopathie de Gayet-Wernicke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oxication psychoactiv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Haschich ; éther à forte dose, solvant, hallucinogèners, amphétamines, barbituriques, opiacées. Evoquer aussi le sevrage.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oxication professionnelle ou accidentell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oxyde de carbone, plomb, arsenic.</a:t>
            </a:r>
            <a:br>
              <a:rPr sz="1600"/>
            </a:b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* intoxication médicamenteuse,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notamment chez la personne âgée : antidépresseurs, benzodiazépines, lithium, corticoïdes, antibiotiques ...</a:t>
            </a:r>
            <a:br>
              <a:rPr sz="16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uses de Confusion Mentale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oxiques Endogè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oubles métaboliqu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yper ou déshydratation, hyponatrémie par carence sodée (Addison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oubles glucidiques (hypoglycémi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oubles cardiologiques et respiratoi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uses réna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ncréat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oubles endocrinien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ypo ou hyperthyroïdie, insuffisance surréna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uses de Confusion Mental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uses neurolog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céphalite (Herpè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meur céréb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ypertension intracrâni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.V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céphalite 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.C. avec hématome extra-d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pilepsie.</a:t>
            </a:r>
            <a:br>
              <a:rPr sz="28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uses de Confusion Mentale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infectie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hoï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cel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phi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ud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kettsi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culose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uses de Confusion Mentale (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uses psychiat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motion au cours de catastrophes naturelles, d'accident, de guerre. La frayeur fait éclater les défenses psychiques natur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gilité de la personnalité, schizoïde, schizotypique, phobique, psychose puerpé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it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milieu hospitalier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itement symptomatique 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 soins généraux, chambre calme, éclairée et surveillée. Traitement, tension artérielle, température, relation.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 sédation de l'agitation par neuroleptiques, anxiolytiques, benzodiazépines I.M. toutes les 4 heures avec surveillance stricte.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 réhydratation qui devient possible par voie orale (3 à 6 litres) + apport calorique, vitamines, sinon réanimation dans les cas graves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Traitement étiologique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ientation éventuelle vers des services spécialisés : réanimation, infectiologie, neurochirurgie, etc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syndrome confusionnel est caractérisé par l'associ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'une baisse de la vigilan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'une désorientation temporospati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'un ralentiss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 d'une perturbation diffuse des activités intellectu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ec souvent illusions ou hallucinations et perturbations du cycle veille-sommeil, des troubles du comportement (activité générale, état affectif, conduites social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ndrome d’installation aiguë ou subaigu, le plus souvent réver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’est une Urgence +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'agit d'un état aigu transitoire, réversible, associant 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une obnubilation de la conscienc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une désorientation spatiale et temporel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un état de délire oniriqu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des troubles somatiqu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uisant un état de souffrance cérébrale dont l'étiologie est à repér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 plus rapidement po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in de proposer une thérapeutique salvatr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mptômes initi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insomnie noctu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somnolence diu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cauche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céphal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asthénie, une anorex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obnub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mutisme, des idées déli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 signes ont u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rudesce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ctu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3737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ébut de la con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f en quelques jours, céphalées, troubles du sommeil, irritabilité, troubles de l'humeu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fois brutal, obnubilations, désorientation, accès d'onirisme entraînant des troubles du comport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d’Etat de la con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ésentation : hébété, maladroit, négligé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obnubilation de la conscience variable, discours peu cohéren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difficultés perceptives, fausses reconnaissances, accès d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rplexité anxie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duisant le désarroi du patient qui a conscience de son éta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d’Etat de la confus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oubles intellectuel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oubles de l'atten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adaptation aux percep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sorientation temporo-spati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ouble de la mémoi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ouble du jugement et de la critiq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pos décousus incohéren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ortements in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lire onirique, rencontré dans un cas sur deux environ. Très variable selon les étiologies (zoopsies du DT) et selon la journée (soir, obscurité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es orga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signes somatiques associé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sordres neurovégétati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yperthermie sans origine infecti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ouble du rythme respi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hydr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ypotension ar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omnie constante avec somnolence diu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oubles neur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éphalées, raideur de la nuque, modification réflex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olu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pend de l'étiologi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les formes psychiqu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érison sans séquelles mais avec amnésie lacunaire fréqu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peut subsister des idées fixes post-oni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ement d'un état délirant chroniq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L'état confusionnel peut évoluer vers un processus démenti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13372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4:28:33Z</dcterms:created>
  <dc:creator> </dc:creator>
  <dc:description/>
  <dc:language>en-US</dc:language>
  <cp:lastModifiedBy>Dr Khellaf</cp:lastModifiedBy>
  <dcterms:modified xsi:type="dcterms:W3CDTF">2006-12-01T08:05:40Z</dcterms:modified>
  <cp:revision>14</cp:revision>
  <dc:subject/>
  <dc:title>Syndrome Confusionnel </dc:title>
</cp:coreProperties>
</file>